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32405-A828-46E0-8D31-69C507BF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F4EAD-81F1-44C2-B887-37A7D20B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1A13A-35C6-49D7-895D-07B94E21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FFE95-E5FD-44B1-93B7-57431F7E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E5A2-A428-4B7B-A009-E87D65EE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FD27-EEB0-4701-A3FF-A5A6F818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C956-01DA-453E-911B-B4372FAF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0206-6F45-4607-A034-B56C649F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372E-87E6-4117-9E3F-3BAD30CA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B4F7-9AF9-44DF-8A9D-3D21811B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E730-465E-4E13-90CB-D0251E3A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D97C8-6D13-4AD9-A8BE-FDF1C531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8578-9BF3-4134-9938-79CFD7B7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7A68-4B8E-45C0-9500-A3A23553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C6D3-8316-424C-87E2-FBE37E4B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9708-B18E-473B-89DA-8E76FBF1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9914-06B2-4028-8F9E-1DBA305E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76AFA-EF60-4FC0-A70D-A3E06845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34358-9739-4FE3-A999-0DF41ECE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973A0-1B8B-4982-AC0C-D7EC85CB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76B8D-6E6A-4535-94FB-3AAD66FC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F3D83-32D3-49E9-ACBD-9B45B406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C5F14-8C00-4764-B927-7E6D9E0B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4AEBD-22D0-425E-A6EC-E3DFE8EB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74ED-5241-457A-A665-D4DA58E52F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BC38-55F9-4454-9A0D-43CA193240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Homophonic Cipher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a Homopho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7920" y="2123640"/>
            <a:ext cx="7932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mophonic cipher as presented has several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uld be subject to a dictionary attack since the key is just a four lett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number range (1-25, 26-50, 51-75, 76-100) could be subjected to a frequency analysis (CAP will allow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nown word or phrase could be compared to the ciphertext (CAP will run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929F9-2B28-4ECB-9ECF-5D304E10BB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04640" y="1733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the ciphertext matrix was created by multiplying the plaintext matrix by the key matrix 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the key matrix can be recovered if we know the inverse of the plaintext matri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33796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 = M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0920" y="5484960"/>
            <a:ext cx="257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K = M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88680" y="5513400"/>
            <a:ext cx="436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Process:  Find the inverse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     the known plaintext, multip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     it times a segment of ciphertex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and check the resulting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01CB3-8342-4329-89A3-05B1F835EC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7480" y="1722600"/>
            <a:ext cx="7380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a Hill cipher by hand is very time consuming however CAP will automate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35320" y="3297240"/>
            <a:ext cx="5648040" cy="356076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7288200" y="3056040"/>
            <a:ext cx="1533600" cy="723960"/>
            <a:chOff x="7288200" y="3056040"/>
            <a:chExt cx="1533600" cy="723960"/>
          </a:xfrm>
        </p:grpSpPr>
        <p:sp>
          <p:nvSpPr>
            <p:cNvPr id="124" name=""/>
            <p:cNvSpPr/>
            <p:nvPr/>
          </p:nvSpPr>
          <p:spPr>
            <a:xfrm>
              <a:off x="7288200" y="3056040"/>
              <a:ext cx="1533600" cy="723960"/>
            </a:xfrm>
            <a:prstGeom prst="wedgeRoundRectCallout">
              <a:avLst>
                <a:gd name="adj1" fmla="val -44615"/>
                <a:gd name="adj2" fmla="val 72148"/>
                <a:gd name="adj3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48320" y="3203640"/>
              <a:ext cx="1471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ter your best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uess for the s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630680" y="3027240"/>
            <a:ext cx="1539360" cy="723960"/>
            <a:chOff x="4630680" y="3027240"/>
            <a:chExt cx="1539360" cy="723960"/>
          </a:xfrm>
        </p:grpSpPr>
        <p:sp>
          <p:nvSpPr>
            <p:cNvPr id="127" name=""/>
            <p:cNvSpPr/>
            <p:nvPr/>
          </p:nvSpPr>
          <p:spPr>
            <a:xfrm>
              <a:off x="4630680" y="3027240"/>
              <a:ext cx="1533600" cy="723960"/>
            </a:xfrm>
            <a:prstGeom prst="wedgeRoundRectCallout">
              <a:avLst>
                <a:gd name="adj1" fmla="val -44615"/>
                <a:gd name="adj2" fmla="val 72148"/>
                <a:gd name="adj3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90800" y="3174840"/>
              <a:ext cx="1479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ter a possible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laintext seg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040440" y="4151160"/>
            <a:ext cx="1533600" cy="723600"/>
            <a:chOff x="6040440" y="4151160"/>
            <a:chExt cx="1533600" cy="723600"/>
          </a:xfrm>
        </p:grpSpPr>
        <p:sp>
          <p:nvSpPr>
            <p:cNvPr id="130" name=""/>
            <p:cNvSpPr/>
            <p:nvPr/>
          </p:nvSpPr>
          <p:spPr>
            <a:xfrm>
              <a:off x="6040440" y="4151160"/>
              <a:ext cx="1533600" cy="723600"/>
            </a:xfrm>
            <a:prstGeom prst="wedgeRoundRectCallout">
              <a:avLst>
                <a:gd name="adj1" fmla="val -44615"/>
                <a:gd name="adj2" fmla="val 72148"/>
                <a:gd name="adj3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30080" y="4184280"/>
              <a:ext cx="1352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y the possible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keys until one 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9849F-265B-4455-9287-4218CB87B5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5-26T23:19:17Z</dcterms:modified>
  <cp:revision>69</cp:revision>
  <dc:subject/>
  <dc:title>CAP Cryptographic Analysis Program</dc:title>
</cp:coreProperties>
</file>